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38C5-3E6C-4E2A-9110-388F494E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1D9D-0652-40E5-97F4-AE8B1A42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9811-8A4E-49F8-9A58-7FF1582C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FE6A-A4C9-459B-8C8C-99FBD5AF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4CC2-5CC6-42F6-BDAB-4B35F532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A34A-946F-44F7-A46F-A5023F1B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8BC-8006-4AF5-A324-54A206F0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7B6A-51FA-4325-A4ED-480224A9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5361-6BB8-4C49-9C59-EE941888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462B-C295-4758-B6E9-F7AEE5FF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23DC-5CF7-4B5E-A1BA-8377133B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F549-F3CB-43C5-A42A-0435FF9F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3790-2FBE-43EC-8600-1DBAF0CC58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Stavební fyzika 1 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(světlo a zvuk 1)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11. Denní osvětlen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aniljukovy úhlové sít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4267080"/>
            <a:ext cx="6096240" cy="1396800"/>
          </a:xfrm>
          <a:prstGeom prst="rect">
            <a:avLst/>
          </a:prstGeom>
          <a:solidFill>
            <a:srgbClr val="ffffff"/>
          </a:solid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Graficko-početní metoda pro stanovení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cs-CZ" sz="4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cs-CZ" sz="4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tanovení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cs-CZ" sz="44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cs-CZ" sz="44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[%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424400" y="152280"/>
          <a:ext cx="451476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152280"/>
                    <a:ext cx="451476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tanovení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cs-CZ" sz="44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cs-CZ" sz="44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[%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424400" y="152280"/>
          <a:ext cx="451476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152280"/>
                    <a:ext cx="451476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57200" y="1981080"/>
                <a:ext cx="28954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ψ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7200" y="3352680"/>
                <a:ext cx="289548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7200" y="4648320"/>
                <a:ext cx="373392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ψ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ψ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57200" y="5638680"/>
                <a:ext cx="3733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ψ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ψ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ψ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tanovení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cs-CZ" sz="4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cs-CZ" sz="44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[%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419720" y="152280"/>
          <a:ext cx="4425840" cy="655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280"/>
                    <a:ext cx="442584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tanovení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cs-CZ" sz="4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cs-CZ" sz="44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[%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419720" y="152280"/>
          <a:ext cx="4425840" cy="655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280"/>
                    <a:ext cx="442584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tanovení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cs-CZ" sz="4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cs-CZ" sz="44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[%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419720" y="152280"/>
          <a:ext cx="4425840" cy="655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280"/>
                    <a:ext cx="442584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tanovení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cs-CZ" sz="4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cs-CZ" sz="44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[%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419720" y="152280"/>
          <a:ext cx="4425840" cy="655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280"/>
                    <a:ext cx="442584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tanovení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cs-CZ" sz="4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cs-CZ" sz="44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[%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419720" y="152280"/>
          <a:ext cx="4425840" cy="655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280"/>
                    <a:ext cx="442584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tanovení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cs-CZ" sz="4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cs-CZ" sz="44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[%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419720" y="152280"/>
          <a:ext cx="4425840" cy="655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280"/>
                    <a:ext cx="442584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57200" y="1981080"/>
                <a:ext cx="28954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ψ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57200" y="3352680"/>
                <a:ext cx="31114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457200" y="4724280"/>
            <a:ext cx="1447920" cy="581400"/>
          </a:xfrm>
          <a:prstGeom prst="rect">
            <a:avLst/>
          </a:prstGeom>
          <a:solidFill>
            <a:srgbClr val="ccffcc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0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7200" y="5638680"/>
                <a:ext cx="319716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Hodnocení Daniljukovy metod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niverzální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– různé modely oblohy, osvětlení i skloněné roviny, svislé i skloněné zasklení osvětlovacího otvor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n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jednoduché poměry stínění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– průběžná překážka konstantní výšky rovnoběžná s okn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Zjednodušení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pomocí těžišťové os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Úhel </a:t>
            </a:r>
            <a:r>
              <a:rPr b="0" i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[°]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je stanoven jen z řez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Diagram pro řez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990720"/>
          <a:ext cx="8686800" cy="55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686800" cy="55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Diagram pro půdory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8600" y="990720"/>
          <a:ext cx="8686800" cy="56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68680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tanovení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cs-CZ" sz="44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cs-CZ" sz="44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[%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424400" y="152280"/>
          <a:ext cx="451476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152280"/>
                    <a:ext cx="451476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tanovení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cs-CZ" sz="44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cs-CZ" sz="44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[%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424400" y="152280"/>
          <a:ext cx="451476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152280"/>
                    <a:ext cx="451476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tanovení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cs-CZ" sz="44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cs-CZ" sz="44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[%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424400" y="152280"/>
          <a:ext cx="451476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152280"/>
                    <a:ext cx="451476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tanovení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cs-CZ" sz="44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cs-CZ" sz="44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[%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424400" y="152280"/>
          <a:ext cx="451476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152280"/>
                    <a:ext cx="451476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tanovení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cs-CZ" sz="44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cs-CZ" sz="44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[%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424400" y="152280"/>
          <a:ext cx="451476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152280"/>
                    <a:ext cx="451476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tanovení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cs-CZ" sz="44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cs-CZ" sz="44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[%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424400" y="152280"/>
          <a:ext cx="451476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152280"/>
                    <a:ext cx="451476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28600" y="3962520"/>
                <a:ext cx="26668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28600" y="2438280"/>
                <a:ext cx="396252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ψ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ψ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ψ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7:49:48Z</dcterms:created>
  <dc:creator>Ing. Jan Kaňka, Ph.D.</dc:creator>
  <dc:description/>
  <dc:language>en-US</dc:language>
  <cp:lastModifiedBy>Ing. Jan Kaňka, Ph.D.</cp:lastModifiedBy>
  <dcterms:modified xsi:type="dcterms:W3CDTF">2004-09-16T15:27:35Z</dcterms:modified>
  <cp:revision>7</cp:revision>
  <dc:subject/>
  <dc:title>Stavební fyzika 1  (světlo a zvuk 1)</dc:title>
</cp:coreProperties>
</file>