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7EB-6828-4ED9-89B4-049D2DDA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F63-A35B-4B2B-8F9B-2719BDC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BE7-E3F7-4CE4-AF00-FE0F1CAA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722-38BB-4A25-A522-1DA184A9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D4C-5A5D-47D9-B836-85945DC3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DDC-2C8C-4F5D-B793-26D1498F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EC7-DF39-4D91-A8ED-4338DF4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CE3-2117-4ADE-892A-294CB7B9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46A-5E8C-431E-B8F5-1502AEC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3FD-EAB2-4D1C-BF60-EABFF5C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647-B451-46A4-B624-850169B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D17-E6DD-48A5-8E94-8E932F4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C85A-8D6D-4CD3-A3C6-DF7C54DF6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39625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ČSN 734301 Obytné budo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ožadovaná doba proslu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ři zanedbání oblačnosti musí být dne </a:t>
            </a:r>
            <a:r>
              <a:rPr b="0" lang="cs-CZ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.</a:t>
            </a:r>
            <a:r>
              <a:rPr b="0" lang="cs-CZ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ba proslunění nejméně </a:t>
            </a:r>
            <a:r>
              <a:rPr b="0" lang="cs-CZ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90 minut</a:t>
            </a:r>
            <a:r>
              <a:rPr b="0" lang="cs-CZ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adovanou dobu proslunění pro den 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ze nahradit bilancí, při které mi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 přestupné roky je celková doba proslunění ve dnech od 10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2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četně 3600 minut (Jedná se o 40 dní s průměrnou dobou proslunění 90 minut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600200"/>
          <a:ext cx="607716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7716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133720"/>
          <a:ext cx="607680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60768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1143000"/>
          <a:ext cx="3733920" cy="28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143000"/>
                    <a:ext cx="3733920" cy="28400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181480" y="1143000"/>
          <a:ext cx="3733920" cy="284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143000"/>
                    <a:ext cx="3733920" cy="28400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76520" y="4876920"/>
          <a:ext cx="7210440" cy="16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76920"/>
                    <a:ext cx="7210440" cy="16524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533520"/>
          <a:ext cx="640080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4008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ČSN 734301 0bytné budovy (červen 200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chny byty musí být navrhovány tak, aby byly prosluněny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 je prosluněn, je-li součet ploch jeho prosluněných obytných místností roven nejméně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edné třetině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čtu ploch všech jeho obytných místností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Rodinné domy ½ plo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533520"/>
          <a:ext cx="640080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4008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533520"/>
          <a:ext cx="640080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4008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533520"/>
          <a:ext cx="640080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4008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e úhlů neefektivního dopadu slunečního zář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533520"/>
          <a:ext cx="640080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4008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tínící překáž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navrhování obytných budov se bere v úvahu stínění nejen dle současného stavu okolí, ale také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žnost poz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ějších změ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případě realizace vý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by podle podmínek územního roz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utí nebo podle regulačního plánu, popř. územního plánu zóny nebo územního projektu, jsou-li pro dané území schvále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Zastínění stávajících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obytné budovy do území je nutno prověřit dodržení požadavků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pro-slunění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é u obytných místností stáv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ících budov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o požadavky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ní nutno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ržet, jedná-li se 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plnění stávající souvislé zástavby výstavbou v prolukác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př. formou nástaveb a přístaveb, jestliže doplněná budova zachovává půdorysný rozsah a výškovou úroveň zástavby so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ních budov popř. jestliže je v souladu s podmínkami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zemních podkladů dle předchozího člán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efinice prol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ukou se rozumí dočasně neza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ěný prostor ve stávající souvislé zástavbě, který je určen k zastavění. Pro nezastavěné nároží (např. při blokové zástavbě) lze použít termín rohová proluk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Oslunění pozemk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kovní zařízení a pozemky v okolí obytných budov sloužící k  rekreaci jejich obyvatel, mají mít alespoň pol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u plochy osluněnou alespoň 3 h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y dne 1. března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ČSN 734301 0bytné budo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oučtu ploch z jedné strany prosluněných obytných místností ani do součtu ploch všech obytných místností se pro tento úč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410080" y="3352680"/>
          <a:ext cx="33102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352680"/>
                    <a:ext cx="3310200" cy="2924280"/>
                  </a:xfrm>
                  <a:prstGeom prst="rect">
                    <a:avLst/>
                  </a:prstGeom>
                  <a:ln w="11448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9480" y="266688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apočítávají části oby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ých místností, které leží ve větší vzdálenosti od okna, než je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3 násobek světlé výšk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ytné místno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80880" y="4952880"/>
            <a:ext cx="3962520" cy="1373760"/>
          </a:xfrm>
          <a:prstGeom prst="rect">
            <a:avLst/>
          </a:prstGeom>
          <a:solidFill>
            <a:srgbClr val="ffffff"/>
          </a:solidFill>
          <a:ln w="63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kna ve skloněné rovině střechy mohou být užší, nejméně ale 7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rot="10800000">
            <a:off x="456840" y="910800"/>
            <a:ext cx="1642680" cy="5410440"/>
          </a:xfrm>
          <a:prstGeom prst="rect">
            <a:avLst/>
          </a:prstGeom>
          <a:noFill/>
          <a:ln w="63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hel půdorysného průmětu slu-nečního paprsku 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hlavní přím-kou rovi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kna je nejméně 2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bytná místnost se považuje za prosluněnou, jsou-li splněny tyto podmínk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233360"/>
          <a:ext cx="822960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33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9:04:45Z</dcterms:created>
  <dc:creator>Ing. Jan Kaňka, Ph.D.</dc:creator>
  <dc:description/>
  <dc:language>en-US</dc:language>
  <cp:lastModifiedBy>Doc. Ing. Jan Kaňka, Ph.D.</cp:lastModifiedBy>
  <dcterms:modified xsi:type="dcterms:W3CDTF">2009-09-22T20:36:06Z</dcterms:modified>
  <cp:revision>7</cp:revision>
  <dc:subject/>
  <dc:title>ČSN 734301 0bytné budovy (červen 2004)</dc:title>
</cp:coreProperties>
</file>