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1E52-689C-41AD-9141-18027B3D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8145-6307-4D0C-8403-E512C165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461-F4F5-4259-B222-F077732B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071-28A5-4B93-96E4-AC352FF2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4E6-57C7-4A38-B16A-5E34C294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39F-A11B-4212-8937-AC5548B9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8015-5AC1-46DB-97CF-303C5A36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BBF-57BF-4578-BA4E-C1689A27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F9E-9747-4AE0-88CA-D0CAFE0C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C154-FD9F-4716-A2E5-8F912B17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34C-7DD9-4612-B54E-F45D014E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6B8-E3A8-46DD-8D14-9A5B5429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161B-5E91-482D-8670-435D7EA8CF46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tavební fyzika 1 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(světlo a zvuk 1)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7. Denní osvětle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ýznam denního osvětle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lastnosti zrak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áklady fotometr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k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909800" y="1104840"/>
          <a:ext cx="53244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9800" y="1104840"/>
                    <a:ext cx="53244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k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909800" y="1104840"/>
          <a:ext cx="53244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9800" y="1104840"/>
                    <a:ext cx="53244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k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909800" y="1104840"/>
          <a:ext cx="53244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9800" y="1104840"/>
                    <a:ext cx="53244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k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909800" y="1104840"/>
          <a:ext cx="53244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9800" y="1104840"/>
                    <a:ext cx="53244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k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909800" y="1104840"/>
          <a:ext cx="53244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9800" y="1104840"/>
                    <a:ext cx="53244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k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909800" y="1104840"/>
          <a:ext cx="53244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9800" y="1104840"/>
                    <a:ext cx="53244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ítnice - obsahuje světločivné buňk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Čípky (7.10</a:t>
            </a:r>
            <a:r>
              <a:rPr b="0" lang="cs-CZ" sz="36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) barevné </a:t>
            </a:r>
            <a:r>
              <a:rPr b="0" lang="cs-CZ" sz="3600" spc="-1" strike="noStrike">
                <a:solidFill>
                  <a:srgbClr val="ff9900"/>
                </a:solidFill>
                <a:latin typeface="Times New Roman"/>
              </a:rPr>
              <a:t>fotopické viděn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yčinky (130.10</a:t>
            </a:r>
            <a:r>
              <a:rPr b="0" lang="cs-CZ" sz="36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) černobílé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9900"/>
                </a:solidFill>
                <a:latin typeface="Times New Roman"/>
              </a:rPr>
              <a:t>skotopické viděn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větlo dopadá na sítnici – fotochemická reakce sítnicových pigmentů (rodopsin) –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chemické drážd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větločivných buněk – přenos informace ve formě nervových vzruc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Vlastnosti zrak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komoda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apta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totropický refle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ektrální citlivo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Akomodac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hopnost zraku zobrazovat ostře předměty v různých vzdálenostech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omodační rozsah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38080" y="4114800"/>
          <a:ext cx="7334280" cy="21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114800"/>
                    <a:ext cx="733428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410080" y="2362320"/>
                <a:ext cx="327672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[</m:t>
                    </m:r>
                    <m:r>
                      <m:t xml:space="preserve">D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Vady zraku související s akomodací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ravé 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emmetropické oko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R=10 až 12 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lízký bod 80 až 100 m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dálený bod v nekoneč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alekozrakost 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hypermetrop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rátkozrakost 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myop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řecká dalekozrakost 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presbyop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R = 4 až 2 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enní osvětlení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světlení slunečním světlem, které je rozptýleno v atmosféř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uzuje se při stavu úplně zatažené oblohy v zim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Zatažená obloha je plošný zdroj světl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světlení je nezávislé na světových straná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ílem je vytvořit 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zrakovou pohodu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ro uživatele interiér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Adapt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chopnost zraku přizpůsobit se různým jasům a různým hladinám osvětlenost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2.10</a:t>
            </a:r>
            <a:r>
              <a:rPr b="0" lang="cs-CZ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lx … vidění 0,25 až 100 000 lx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Dva adaptační mechanis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Zornicový refle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1,8 až 7,5 mm (1:1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0,36 až 0,38 s (0,1 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Adaptační mechanismus sít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daptace na světlo 1 minuta (10 minu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daptace na tmu (20 + 40 minu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ff9900"/>
                </a:solidFill>
                <a:latin typeface="Times New Roman"/>
              </a:rPr>
              <a:t>READAPT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Fototropický refle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i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s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tomaticky obracejí k tomu místu v zorném poli, kde je nejvyšší jas nebo nejvyšší kontrast jasů.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pektrální citlivost zrak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ální fotometrický pozorova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1523880"/>
          <a:ext cx="8153640" cy="511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815364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Times New Roman"/>
              </a:rPr>
              <a:t>Fotometri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Zkoumá světelné záření z hlediska jeho schopnosti vzbudit zrakový vj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9900"/>
                </a:solidFill>
                <a:latin typeface="Times New Roman"/>
              </a:rPr>
              <a:t>Světelný tok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Φ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[</a:t>
            </a:r>
            <a:r>
              <a:rPr b="0" i="1" lang="en-U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lm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120680" y="1219320"/>
                <a:ext cx="671508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dλ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5" name=""/>
          <p:cNvGraphicFramePr/>
          <p:nvPr/>
        </p:nvGraphicFramePr>
        <p:xfrm>
          <a:off x="1447920" y="2971800"/>
          <a:ext cx="632448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971800"/>
                    <a:ext cx="632448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371600" y="3352680"/>
            <a:ext cx="6400800" cy="17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cs-CZ" sz="36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= 683 </a:t>
            </a:r>
            <a:r>
              <a:rPr b="0" i="1" lang="cs-CZ" sz="3600" spc="-1" strike="noStrike">
                <a:solidFill>
                  <a:srgbClr val="ffffff"/>
                </a:solidFill>
                <a:latin typeface="Times New Roman"/>
              </a:rPr>
              <a:t>lm/W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větelná účinnost monochromatického záření při vlnové délce 555 n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9900"/>
                </a:solidFill>
                <a:latin typeface="Times New Roman"/>
              </a:rPr>
              <a:t>Světelný tok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Φ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[</a:t>
            </a:r>
            <a:r>
              <a:rPr b="0" i="1" lang="en-U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lm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20680" y="1219320"/>
                <a:ext cx="671508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dλ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1447920" y="2971800"/>
          <a:ext cx="632448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971800"/>
                    <a:ext cx="632448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1482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124080" y="4800600"/>
                <a:ext cx="221004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</m:e>
                    </m:nary>
                    <m:r>
                      <m:t xml:space="preserve">dλ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9900"/>
                </a:solidFill>
                <a:latin typeface="Times New Roman"/>
              </a:rPr>
              <a:t>Světelný tok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Φ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[</a:t>
            </a:r>
            <a:r>
              <a:rPr b="0" i="1" lang="en-U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lm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120680" y="1219320"/>
                <a:ext cx="671508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dλ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1447920" y="2971800"/>
          <a:ext cx="632448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971800"/>
                    <a:ext cx="632448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41482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9900"/>
                </a:solidFill>
                <a:latin typeface="Times New Roman"/>
              </a:rPr>
              <a:t>Svítivost </a:t>
            </a: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[</a:t>
            </a: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d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48120" y="1143000"/>
                <a:ext cx="282420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Φ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21" name=""/>
          <p:cNvGraphicFramePr/>
          <p:nvPr/>
        </p:nvGraphicFramePr>
        <p:xfrm>
          <a:off x="914400" y="2819520"/>
          <a:ext cx="3733920" cy="18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819520"/>
                    <a:ext cx="37339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257800" y="2971800"/>
                <a:ext cx="213372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9900"/>
                </a:solidFill>
                <a:latin typeface="Times New Roman"/>
              </a:rPr>
              <a:t>Jas </a:t>
            </a:r>
            <a:r>
              <a:rPr b="0" i="1" lang="cs-CZ" sz="4400" spc="-1" strike="noStrike">
                <a:solidFill>
                  <a:srgbClr val="ff9900"/>
                </a:solidFill>
                <a:latin typeface="Times New Roman"/>
              </a:rPr>
              <a:t>L</a:t>
            </a:r>
            <a:r>
              <a:rPr b="0" lang="cs-CZ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[</a:t>
            </a: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d/m</a:t>
            </a:r>
            <a:r>
              <a:rPr b="0" lang="en-US" sz="4400" spc="-1" strike="noStrike" baseline="30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1676520"/>
          <a:ext cx="32716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32716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419720" y="1617840"/>
                <a:ext cx="391464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t xml:space="preserve">d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4495680" y="36576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inový (Lambert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ři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62120" y="304920"/>
          <a:ext cx="1636560" cy="22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920"/>
                    <a:ext cx="16365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838080" y="6095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hann Heinrich Lambert (1728 – 1777)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0" y="4572000"/>
                <a:ext cx="35053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9900"/>
                </a:solidFill>
                <a:latin typeface="Times New Roman"/>
              </a:rPr>
              <a:t>Osvětlenost </a:t>
            </a:r>
            <a:r>
              <a:rPr b="0" i="1" lang="cs-CZ" sz="4400" spc="-1" strike="noStrike">
                <a:solidFill>
                  <a:srgbClr val="ff9900"/>
                </a:solidFill>
                <a:latin typeface="Times New Roman"/>
              </a:rPr>
              <a:t>E</a:t>
            </a:r>
            <a:r>
              <a:rPr b="0" lang="cs-CZ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[</a:t>
            </a:r>
            <a:r>
              <a:rPr b="0" i="1" lang="cs-CZ" sz="4400" spc="-1" strike="noStrike">
                <a:solidFill>
                  <a:srgbClr val="ff9900"/>
                </a:solidFill>
                <a:latin typeface="Times New Roman"/>
              </a:rPr>
              <a:t>lx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371600" y="1219320"/>
                <a:ext cx="198108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Φ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35" name=""/>
          <p:cNvGraphicFramePr/>
          <p:nvPr/>
        </p:nvGraphicFramePr>
        <p:xfrm>
          <a:off x="3657600" y="1143000"/>
          <a:ext cx="4724280" cy="28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143000"/>
                    <a:ext cx="4724280" cy="28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914400" y="4267080"/>
                <a:ext cx="50292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Φ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I</m:t>
                    </m:r>
                    <m:f>
                      <m:num>
                        <m:r>
                          <m:t xml:space="preserve">d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ε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324480" y="5105520"/>
                <a:ext cx="236232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ε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835560" y="3429000"/>
            <a:ext cx="24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dový zdr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Zraková poho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říjemný psychofyziologický stav potřebný pro účinnou práci a od-počinek, splňující hygienické požadavk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ávisí na intenzitě a kvalitě osvět-lení, na architektonických vlast-nostech prostoru a na stavu zraku uživatele interiéru budov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9900"/>
                </a:solidFill>
                <a:latin typeface="Times New Roman"/>
              </a:rPr>
              <a:t>Osvětlenost plošným zdroj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48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337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860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828800" y="1219320"/>
          <a:ext cx="5105520" cy="49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49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9900"/>
                </a:solidFill>
                <a:latin typeface="Times New Roman"/>
              </a:rPr>
              <a:t>Osvětlenost plošným zdroj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828800" y="1219320"/>
          <a:ext cx="5105520" cy="49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49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486400" y="1523880"/>
                <a:ext cx="335268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553080" y="3962520"/>
                <a:ext cx="2300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4343400" y="3124080"/>
            <a:ext cx="45720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droj s konstantním jas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9900"/>
                </a:solidFill>
                <a:latin typeface="Times New Roman"/>
              </a:rPr>
              <a:t>Horizontální exteriérová osvětleno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38080" y="1676520"/>
          <a:ext cx="2924280" cy="21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292428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114800" y="2971800"/>
                <a:ext cx="22860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114800" y="4267080"/>
                <a:ext cx="4667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Výhody denního osvětlení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9900"/>
                </a:solidFill>
                <a:latin typeface="Times New Roman"/>
              </a:rPr>
              <a:t>Zdravotní (hygienické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je zdravější než světlo uměl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9900"/>
                </a:solidFill>
                <a:latin typeface="Times New Roman"/>
              </a:rPr>
              <a:t>Ekonomick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je zadarm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9900"/>
                </a:solidFill>
                <a:latin typeface="Times New Roman"/>
              </a:rPr>
              <a:t>Ekologick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římé využití sluneční energie bez její přeměny a akumulace a bez zatíže-ní prostředí odpad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luneční záření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28600" y="2590920"/>
          <a:ext cx="8686800" cy="19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90920"/>
                    <a:ext cx="8686800" cy="19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09680" y="4648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PTICKÉ ZÁŘ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ptické záření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38080" y="2590920"/>
          <a:ext cx="7925040" cy="22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90920"/>
                    <a:ext cx="792504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9900"/>
                </a:solidFill>
                <a:latin typeface="Times New Roman"/>
              </a:rPr>
              <a:t>Svět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90720" y="2666880"/>
          <a:ext cx="769608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69608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Zrakový systém člověk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bor orgánů, které zajišťují příjem, přenos a zpracování informace přenášené světl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iferní (oč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ojovací (zrakové nerv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ntrální (části mozku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k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909800" y="1104840"/>
          <a:ext cx="53244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9800" y="1104840"/>
                    <a:ext cx="53244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20:25:21Z</dcterms:created>
  <dc:creator>Ing. Jan Kaňka, Ph.D.</dc:creator>
  <dc:description/>
  <dc:language>en-US</dc:language>
  <cp:lastModifiedBy>Ing. Jan Kaňka, Ph.D.</cp:lastModifiedBy>
  <dcterms:modified xsi:type="dcterms:W3CDTF">2004-09-12T21:08:06Z</dcterms:modified>
  <cp:revision>13</cp:revision>
  <dc:subject/>
  <dc:title>Denní osvětlení</dc:title>
</cp:coreProperties>
</file>