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94D-2A54-4A85-ACB3-D31CD673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A41-28AE-440F-B181-7968AFEF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C38-861F-438B-87D1-E0A63E5E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4CA-9BD6-4D51-AD1F-5CBB9F24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C61-ACED-417E-97F7-9D779EE5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14D-4BC0-4EA7-A700-D18E31D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C89-9533-4FF5-A222-CFF2FDE3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79D-DBA1-4EA0-8FB7-7987D14E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A2D-26F9-478B-8003-976ED337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66E-A79D-4A15-A4F7-7785D1C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814-15DC-4559-A97F-2564D0F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83A-2FA5-4F79-95F4-7DCF806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8B33-1E0F-4701-AF99-C0EC3593F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tavební fyzika 1 </a:t>
            </a:r>
            <a:br>
              <a:rPr sz="6000"/>
            </a:b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(světlo a zvuk 1)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10. Denní osvětl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tanovení činitele denní osvětlen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Každý výpočet musí respektov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lastnosti obloh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lastnosti stínících překáže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lastnosti osvětlovacího otvo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lastnosti vnitřního prosto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blo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ažená obloha v zimě při tmavém teré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ažená obloha v zimě při zasněženém teré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2362320"/>
          <a:ext cx="358128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8128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48320" y="2286000"/>
          <a:ext cx="3733560" cy="18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373356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43000" y="4267080"/>
                <a:ext cx="2743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4120" y="4267080"/>
                <a:ext cx="25146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105520" y="5410080"/>
            <a:ext cx="3124080" cy="814680"/>
          </a:xfrm>
          <a:prstGeom prst="rect">
            <a:avLst/>
          </a:prstGeom>
          <a:solidFill>
            <a:srgbClr val="ffff99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 V LOKALIT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m n.m. A VÝŠ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stínících překáž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9810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Činitel jasu stínící překážk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00800" y="1905120"/>
                <a:ext cx="167652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914400" y="26668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ěžně používaná hodnot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0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988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dnotu k je možno ovlivnit světlým nátěrem průčelí i světlým povrchem terénu před překážkou. Vyšší hodnoty než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0,25 je možno dosáhnout jen obtíž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666880"/>
          <a:ext cx="914400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990720" y="1371600"/>
            <a:ext cx="6781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 činitele prostupu světla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s,nor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[-] v normálném s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Činitel směrové propustnosti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-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5120" y="2259000"/>
          <a:ext cx="60865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59000"/>
                    <a:ext cx="60865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15880" y="5410080"/>
                <a:ext cx="3629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ψ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Činitel propustnosti světla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-] vlivem neprůsvitných konstrukcí ok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2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2514600"/>
          <a:ext cx="464832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464832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Činitel propustnosti světla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-] vlivem neprůsvitných konstrukcí ok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2514600"/>
          <a:ext cx="464832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464832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300720" y="3505320"/>
                <a:ext cx="1876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371600"/>
            <a:ext cx="6781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noty činitele znečištění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[-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438280"/>
          <a:ext cx="9144000" cy="36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9144000" cy="36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371600"/>
            <a:ext cx="67816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noty činitele propustnosti světla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[-] vlivem stínění konstrukce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3581280"/>
          <a:ext cx="9144000" cy="17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1280"/>
                    <a:ext cx="914400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osvětlovacích otvor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Činitel prostupu světla vlivem materiálu zasklení – čiré sklo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0,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Činitel směrové propustnost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ca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0,6 až 1,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Činitel prostupu světla vlivem neprůsvitné konstrukce okna (rámy a příčle) – cca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0,70 až 0,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Činitel znečištění zvenku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0,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Činitel znečištění zevnitř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0,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486400"/>
            <a:ext cx="8001000" cy="520560"/>
          </a:xfrm>
          <a:prstGeom prst="rect">
            <a:avLst/>
          </a:prstGeom>
          <a:solidFill>
            <a:srgbClr val="ffffcc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říklad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92 . 0,92 . 0,8 . 0,75. 0,90 . 0,95 = 0,4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66ffff"/>
                </a:solidFill>
                <a:latin typeface="Times New Roman"/>
              </a:rPr>
              <a:t>Stanovení činitele denní osvětlenosti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ěřením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ěřením na model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ěřením na modelu pod umělou obloh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ýpoč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vnitřního prostor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čet vnitřních ploch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238880" y="1447920"/>
          <a:ext cx="130500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447920"/>
                    <a:ext cx="1305000" cy="938160"/>
                  </a:xfrm>
                  <a:prstGeom prst="rect">
                    <a:avLst/>
                  </a:prstGeom>
                  <a:ln w="255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52680" y="2743200"/>
                <a:ext cx="51818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Σ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4114800"/>
            <a:ext cx="73915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initel odrazu světla závisí na odstínu barv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ílá 0,75 až 0,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hla 0,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kno 0,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erná 0,01 až 0,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724280"/>
            <a:ext cx="5181480" cy="1623600"/>
          </a:xfrm>
          <a:prstGeom prst="rect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ení-li známo barevné řešení interiéru (např. obytné místnosti), pak </a:t>
            </a:r>
            <a:r>
              <a:rPr b="1" i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</a:t>
            </a:r>
            <a:r>
              <a:rPr b="1" i="1" lang="en-US" sz="3200" spc="-1" strike="noStrike" baseline="-25000">
                <a:solidFill>
                  <a:srgbClr val="ff99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= 0,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9051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ůměrný činitel odrazu světla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vnitřního prostor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984320"/>
          <a:ext cx="914400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4320"/>
                    <a:ext cx="9144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85800" y="1143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dnoty činitele odrazu světla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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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Vlastnosti vnitřního prostor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evný vzorní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38480" y="1143000"/>
          <a:ext cx="4310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143000"/>
                    <a:ext cx="4310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752480"/>
          <a:ext cx="54370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370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76520" y="1752480"/>
          <a:ext cx="54370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370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76520" y="1752480"/>
          <a:ext cx="54370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370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76520" y="1752480"/>
          <a:ext cx="54370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370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76520" y="1752480"/>
          <a:ext cx="54370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370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76520" y="1752480"/>
          <a:ext cx="54370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4370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5638680"/>
            <a:ext cx="3733920" cy="787320"/>
          </a:xfrm>
          <a:prstGeom prst="rect">
            <a:avLst/>
          </a:prstGeom>
          <a:solidFill>
            <a:srgbClr val="ffffcc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D = 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ffff"/>
                </a:solidFill>
                <a:latin typeface="Times New Roman"/>
              </a:rPr>
              <a:t>Výpočet činitele denní osvětle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676520"/>
            <a:ext cx="3733560" cy="787320"/>
          </a:xfrm>
          <a:prstGeom prst="rect">
            <a:avLst/>
          </a:prstGeom>
          <a:solidFill>
            <a:srgbClr val="ffffcc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D = 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i="1" lang="cs-CZ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666880"/>
            <a:ext cx="426708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cs-CZ" sz="4000" spc="-1" strike="noStrike" baseline="-25000">
                <a:solidFill>
                  <a:srgbClr val="ff9900"/>
                </a:solidFill>
                <a:latin typeface="Times New Roman"/>
              </a:rPr>
              <a:t>s</a:t>
            </a:r>
            <a:r>
              <a:rPr b="0" i="1" lang="cs-CZ" sz="4000" spc="-1" strike="noStrike">
                <a:solidFill>
                  <a:srgbClr val="ff9900"/>
                </a:solidFill>
                <a:latin typeface="Times New Roman"/>
              </a:rPr>
              <a:t>+D</a:t>
            </a:r>
            <a:r>
              <a:rPr b="0" i="1" lang="cs-CZ" sz="40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niljukovy úhlové sí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ittlerovy protrak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aldramův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odová metoda (P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2590920"/>
            <a:ext cx="32004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cs-CZ" sz="40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ndtův vzor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toda B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6:59:40Z</dcterms:created>
  <dc:creator>Ing. Jan Kaňka, Ph.D.</dc:creator>
  <dc:description/>
  <dc:language>en-US</dc:language>
  <cp:lastModifiedBy>Ing. Jan Kaňka, Ph.D.</cp:lastModifiedBy>
  <dcterms:modified xsi:type="dcterms:W3CDTF">2004-09-25T08:04:00Z</dcterms:modified>
  <cp:revision>4</cp:revision>
  <dc:subject/>
  <dc:title>Stavební fyzika 1  (světlo a zvuk 1)</dc:title>
</cp:coreProperties>
</file>