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9D7-61FE-4CEC-8CB7-8B925835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FA8-79A3-477D-A0E3-83BA502D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CE2-78B3-43FA-A6BB-3F516386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DED-11FA-4C82-AFAA-5DFD4D2A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F83-86EB-4122-AC15-CBD57C49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D26-F506-4A55-945E-AF349D81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D7F-A7DC-4D5F-B50E-F9AA244B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CAA-309E-420D-8D95-DC48675B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ABC-4A4D-4891-9A44-623370E3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E2A-0D74-4B13-B574-C96FC7C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690-F677-4111-8E16-1351C3C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4F1-CB31-428B-A17E-90AEF9D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0891-8217-4D81-93AF-3B97C885A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avební fyzika 1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(světlo a zvuk 1)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39625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Sluneční zář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ltrafialové záření 100 – 380 n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ktericidní působení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vi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j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oroboplod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árod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vi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baktér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Desinfikuje interiér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chodem přes zasklené okno se tento účinek zeslabuje až 100 x. Přesto v interiéru toto působení neztrácí svůj význ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hemické změn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ateriálů a povrchů (umělé hmoty, nátěry, potraviny, chemikálie…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iditelné záření = světlo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380  - 770 n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římé i rozptýlené v atmosféře je zdrojem denního světla pro interiér. M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 příznivý vliv na psychiku uživatelů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římé záření může být příčinou zhoršení zrakové pohody protože způsobuje 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vysoký kontrast jasů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mezi ozářenými a neozáře-nými plochami a oslňuje odrazem od lesklých ploch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fračervené záření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770 – 1400 n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věk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nímá převážně povrchem těla jako 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ůsobení tepla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ladných obdobích roku, je zdrojem energetických zisků a může přispívat k vytápění budovy. Naopak v letních mě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ících může být příčinou nadměrného vzestupu teploty ve vnitřním prostoru budov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Oslunění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lun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vební světelná technik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SLUNĚN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ímý dopad slunečních paprsků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NNÍ OSVĚTLE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světlení interiérů denním světlem, na kterém se účastní jak přímé sluneční záření, tak sluneční světlo rozptýlené v atmosféř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luneční záření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762120"/>
          <a:ext cx="8153640" cy="58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15364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luneční záření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762120"/>
          <a:ext cx="8153640" cy="58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15364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luneční záření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762120"/>
          <a:ext cx="8153640" cy="58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15364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luneční záření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762120"/>
          <a:ext cx="8153640" cy="58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15364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č je obloha modrá a slunce při západu červ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971800" y="2209680"/>
          <a:ext cx="579132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209680"/>
                    <a:ext cx="579132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4038480"/>
          <a:ext cx="22766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2766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80880" y="2209680"/>
          <a:ext cx="229572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209680"/>
                    <a:ext cx="22957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ltrafialové záření 100 – 380 n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kutní účin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ár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nět kůže následným ochranným zesílením svrchní vrstvy kůže a pigmentac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hronický účin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generativní změny kůže včetně tvorby zhoubných nádor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V záření neproniká až k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ítnici ok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ůže ji poškod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etabolismus kalcia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V záření je nezbytné pro tvorbu vitamínu D v lidském organismu. Nedostatek tohoto vitamínu se může projevit onemocněním kost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6:43:52Z</dcterms:created>
  <dc:creator>Ing. Jan Kaňka, Ph.D.</dc:creator>
  <dc:description/>
  <dc:language>en-US</dc:language>
  <cp:lastModifiedBy>kanka</cp:lastModifiedBy>
  <dcterms:modified xsi:type="dcterms:W3CDTF">2009-09-23T10:43:36Z</dcterms:modified>
  <cp:revision>6</cp:revision>
  <dc:subject/>
  <dc:title>Oslunění</dc:title>
</cp:coreProperties>
</file>