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72C-2E5A-4F85-B5F9-026F0F0A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5C1-4FDF-4F9C-B2F0-5C886A8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1D2-92E1-45BA-A6AC-FBA43DA5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7FA-591B-4AA1-B493-939C20D0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490-088B-40D7-B41D-96FCE291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4B7-53F4-4A8C-AA84-4E49A262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DC9-3397-40D1-A4F2-FE61C349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43D-F5C9-4C2B-B86F-7F12DD5F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0B5-1EB6-4F6E-A023-989B7968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A6C-098E-4CBF-94EE-C52C7ED5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306-7002-4A53-B529-D4317D5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F42-6BD3-409F-9C93-1118F15B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504-1301-4ED7-8599-D026C2D0A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. Denní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žadavky na denní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ČSN 730580-1 až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Sdružené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47920" y="1143000"/>
          <a:ext cx="61815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18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Sdružené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7920" y="3657600"/>
          <a:ext cx="622440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657600"/>
                    <a:ext cx="6224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447920" y="1143000"/>
          <a:ext cx="61815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143000"/>
                    <a:ext cx="618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Sdružené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47920" y="3657600"/>
          <a:ext cx="622440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657600"/>
                    <a:ext cx="6224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447920" y="1143000"/>
          <a:ext cx="61815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143000"/>
                    <a:ext cx="618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Norm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5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Times New Roman"/>
              </a:rPr>
              <a:t>ČSN 730580-1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nní osvětlení budov – základní požada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Times New Roman"/>
              </a:rPr>
              <a:t>ČSN 730580-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nní osvětlení obytných bud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Times New Roman"/>
              </a:rPr>
              <a:t>ČSN 730580-3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nní osvětlení šk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Times New Roman"/>
              </a:rPr>
              <a:t>ČSN 730580-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nní osvětlení průmyslových bud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Požadavky na denní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sou odstupňovány podle zrakové obtíž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ěřítkem j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měrná pozorovací vzdále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le ní jsou zrakové činnosti jsou rozděleny do 7-mi tříd zrakové čin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4495680"/>
          <a:ext cx="43912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495680"/>
                    <a:ext cx="4391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486400" y="4495680"/>
                <a:ext cx="26668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ožadavky závisí na osvětlovacím systému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809880" cy="3124080"/>
          </a:xfrm>
          <a:prstGeom prst="rect">
            <a:avLst/>
          </a:prstGeom>
          <a:noFill/>
          <a:ln w="11448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žaduje se jen minimální hodnota činitele denní osvětle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00"/>
                </a:solidFill>
                <a:latin typeface="Times New Roman"/>
              </a:rPr>
              <a:t>D</a:t>
            </a:r>
            <a:r>
              <a:rPr b="1" lang="cs-CZ" sz="4400" spc="-1" strike="noStrike" baseline="-25000">
                <a:solidFill>
                  <a:srgbClr val="ffcc00"/>
                </a:solidFill>
                <a:latin typeface="Times New Roman"/>
              </a:rPr>
              <a:t>min</a:t>
            </a:r>
            <a:r>
              <a:rPr b="1" lang="cs-CZ" sz="4400" spc="-1" strike="noStrike">
                <a:solidFill>
                  <a:srgbClr val="ffcc00"/>
                </a:solidFill>
                <a:latin typeface="Times New Roman"/>
              </a:rPr>
              <a:t> (%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2590560"/>
            <a:ext cx="4038480" cy="3733560"/>
          </a:xfrm>
          <a:prstGeom prst="rect">
            <a:avLst/>
          </a:prstGeom>
          <a:noFill/>
          <a:ln w="11448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aduje se minimální hodnota činitele denní osvětlenosti a průměrná hodnota v prostoru nebo jeho funkčně vymezené čá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Times New Roman"/>
              </a:rPr>
              <a:t>D</a:t>
            </a:r>
            <a:r>
              <a:rPr b="1" lang="cs-CZ" sz="4000" spc="-1" strike="noStrike" baseline="-25000">
                <a:solidFill>
                  <a:srgbClr val="ffcc00"/>
                </a:solidFill>
                <a:latin typeface="Times New Roman"/>
              </a:rPr>
              <a:t>min </a:t>
            </a:r>
            <a:r>
              <a:rPr b="1" lang="cs-CZ" sz="4000" spc="-1" strike="noStrike">
                <a:solidFill>
                  <a:srgbClr val="ffcc00"/>
                </a:solidFill>
                <a:latin typeface="Times New Roman"/>
              </a:rPr>
              <a:t>+ D</a:t>
            </a:r>
            <a:r>
              <a:rPr b="1" lang="cs-CZ" sz="4000" spc="-1" strike="noStrike" baseline="-25000">
                <a:solidFill>
                  <a:srgbClr val="ffcc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ffcc00"/>
                </a:solidFill>
                <a:latin typeface="Times New Roman"/>
              </a:rPr>
              <a:t> (%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ČNÍ OSVĚTL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RNÍ OSVĚT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62120" y="152280"/>
          <a:ext cx="7696080" cy="647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769608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762120" y="152280"/>
          <a:ext cx="7696080" cy="647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769608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2057400"/>
            <a:ext cx="6933960" cy="9471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e-li o trvalý pobyt, pak se požaduje nejméně D = 1,5 % resp. D = 3 % vž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3581280"/>
            <a:ext cx="5331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3581280"/>
            <a:ext cx="1143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ředně přes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581280"/>
            <a:ext cx="7621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až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3581280"/>
            <a:ext cx="609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3581280"/>
            <a:ext cx="685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Kvalitativní kritéria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vnoměrnost denního osvětlen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zložení světelného tok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zložení jasu ploch v zorném po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ábrana oslněn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ovnoměrnost denního osvětlení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oví se v celém interiéru nebo jeho funkčně vymezené čás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791320" y="2819520"/>
                <a:ext cx="190980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57200" y="4724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řída I. Ař III. doporučeno R &gt; 0,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429000"/>
            <a:ext cx="487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řída I. Až IV. R &gt; 0,2    Třída V. R &gt; 0,1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Osvětlovací systém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ční (jednostranný, vícestranný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r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mbinovan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ruhotn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družen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ozložení světelného toku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(směr a difúznost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ěr osvětlení musí být v souladu s povahou zrakové činnosti a musí být volen tak, aby n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házelo ke stínění osobou pozorovatele nebo zařízením interiéru. Většinou se dává přednost osvětle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zleva nebo zleva a zpřed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řevládající směr osvětlení by měl být doplněn přímým nebo odraženým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větlem z jiných směr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ro rozlišení plošných detailů je výhodnější rozptýlené (difúz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í) osvětlení, zatímco směrované světlo podp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 prostorové vid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ozložení jasu ploch v zorném po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visí s fototropickým reflex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ajistit kontrast mezi pozorovaným detailem a jeho blízkým pozadí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yloučit rušivé kontrasty v zorném po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větlé nátěry okenní stěny, rámů o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Zábrana oslnění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lně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nepříznivý stav zraku, který ruší zrakovou pohodu nebo zhoršuje až znemožňuje vid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257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vláště nepříjemné je odrazem od lesklých plo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590920"/>
            <a:ext cx="4038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lu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chodové (5: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tra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ávojov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ožadavky na denní osvětlení obytných místnost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71600" y="838080"/>
          <a:ext cx="647712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6477120" cy="5572080"/>
                  </a:xfrm>
                  <a:prstGeom prst="rect">
                    <a:avLst/>
                  </a:prstGeom>
                  <a:ln w="11448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ožadavky na denní osvětlení obytných místnost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838080"/>
          <a:ext cx="647712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6477120" cy="5572080"/>
                  </a:xfrm>
                  <a:prstGeom prst="rect">
                    <a:avLst/>
                  </a:prstGeom>
                  <a:ln w="11448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ožadavky na denní osvětlení obytných místnost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71600" y="838080"/>
          <a:ext cx="647712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6477120" cy="5572080"/>
                  </a:xfrm>
                  <a:prstGeom prst="rect">
                    <a:avLst/>
                  </a:prstGeom>
                  <a:ln w="11448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Boční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38280" y="1219320"/>
          <a:ext cx="419112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41911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438280" y="4038480"/>
          <a:ext cx="4191120" cy="26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038480"/>
                    <a:ext cx="419112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Horní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371600"/>
          <a:ext cx="410544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410544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81480" y="1371600"/>
          <a:ext cx="2705400" cy="33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371600"/>
                    <a:ext cx="27054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Kombinované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76520" y="2209680"/>
          <a:ext cx="5691240" cy="29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569124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hotné osvětlení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57280" y="2319480"/>
          <a:ext cx="6230880" cy="22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2319480"/>
                    <a:ext cx="6230880" cy="22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Sdružené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Záměrn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oučasné osvětlení denním a doplňujícím umělým světl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valého pobytu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e vnitřním prostoru musí být použití sdruženého osvětlení vždy odůvodněn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Trvalý pobyt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yt lidí ve vnitřním prostoru nebo jeho funkčně vymezené části, který trvá v průběhu jednoho dne (za denního světla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éle než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hodiny a opakuje se při trvalém užívání budov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íce než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dnou týdně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Sdružené osvětlen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1143000"/>
          <a:ext cx="61815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18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3:09:18Z</dcterms:created>
  <dc:creator>Ing. Jan Kaňka, Ph.D.</dc:creator>
  <dc:description/>
  <dc:language>en-US</dc:language>
  <cp:lastModifiedBy>Ing. Jan Kaňka, Ph.D.</cp:lastModifiedBy>
  <dcterms:modified xsi:type="dcterms:W3CDTF">2004-09-25T07:58:33Z</dcterms:modified>
  <cp:revision>4</cp:revision>
  <dc:subject/>
  <dc:title>Stavební fyzika 1  (světlo a zvuk 1)</dc:title>
</cp:coreProperties>
</file>