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9F5B-2429-4732-B3A8-B17B2A72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4E56-3D1F-46F2-8272-BF1BD970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D285-7822-4735-AEF9-2B13A28F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3F67-AEA6-422C-940B-43553613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F162-A671-4B90-B9B1-8C47E2A2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754A-BF72-4AE8-9CE7-409DED1B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1B69-DC92-41EC-A7D7-C86FAC92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EE5B-698B-4F19-BCE9-BDF7A1BE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B83C-410B-4825-AEFB-4AAD1E35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E5E2-58FD-4EB9-88B1-3A24E14C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8F53-B5AB-4DAF-B6A0-5823CBF9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3976-B810-4176-B5B7-D82FEEA3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BF5A-74AD-4B14-8EB2-A14B036FEB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ff"/>
                </a:solidFill>
                <a:latin typeface="Times New Roman"/>
              </a:rPr>
              <a:t>Stavební fyzika 1 </a:t>
            </a:r>
            <a:br>
              <a:rPr sz="6000"/>
            </a:br>
            <a:r>
              <a:rPr b="0" lang="en-US" sz="6000" spc="-1" strike="noStrike">
                <a:solidFill>
                  <a:srgbClr val="66ffff"/>
                </a:solidFill>
                <a:latin typeface="Times New Roman"/>
              </a:rPr>
              <a:t>(světlo a zvuk 1)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12. Denní osvětlen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aldramův diagra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4267080"/>
            <a:ext cx="6172200" cy="1396800"/>
          </a:xfrm>
          <a:prstGeom prst="rect">
            <a:avLst/>
          </a:prstGeom>
          <a:solidFill>
            <a:srgbClr val="ffffff"/>
          </a:solidFill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Graficko-početní metoda pro stanovení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cs-CZ" sz="4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cs-CZ" sz="4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a D</a:t>
            </a:r>
            <a:r>
              <a:rPr b="0" i="1" lang="cs-CZ" sz="4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66ffff"/>
                </a:solidFill>
                <a:latin typeface="Times New Roman"/>
              </a:rPr>
              <a:t>Upravený Waldramův diagram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244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1089000"/>
          <a:ext cx="9144000" cy="57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89000"/>
                    <a:ext cx="9144000" cy="57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481720" y="0"/>
          <a:ext cx="3662280" cy="579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1720" y="0"/>
                    <a:ext cx="3662280" cy="5791320"/>
                  </a:xfrm>
                  <a:prstGeom prst="rect">
                    <a:avLst/>
                  </a:prstGeom>
                  <a:ln w="63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41432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33520" y="2743200"/>
                <a:ext cx="256068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,no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66ffff"/>
                </a:solidFill>
                <a:latin typeface="Times New Roman"/>
              </a:rPr>
              <a:t>Upravený Waldramův diagram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244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04920" y="990720"/>
          <a:ext cx="8610480" cy="39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8610480" cy="39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447920" y="5334120"/>
                <a:ext cx="266688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,no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930920" y="5334120"/>
                <a:ext cx="3070080" cy="13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,no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66ffff"/>
                </a:solidFill>
                <a:latin typeface="Times New Roman"/>
              </a:rPr>
              <a:t>Waldramův diagram</a:t>
            </a:r>
            <a:br>
              <a:rPr sz="5400"/>
            </a:b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3760" y="1523880"/>
            <a:ext cx="3429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zení okolí osvětlovaného místa, při kterém plošný obsah zobrazených prvků (oken, stínících př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ážek) je úměrný jejich příspěvku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světlenost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510516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66ffff"/>
                </a:solidFill>
                <a:latin typeface="Times New Roman"/>
              </a:rPr>
              <a:t>Waldramův diagram</a:t>
            </a:r>
            <a:br>
              <a:rPr sz="5400"/>
            </a:b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3760" y="1523880"/>
            <a:ext cx="3429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estrojen ve 20. letech minulého století v Anglii pro konstantní jas oblo-hy a bez uvažování směrové propust-nosti zasklení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Lze použít jen pro osvětlení vodorovné plochy v exteriér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510516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66ffff"/>
                </a:solidFill>
                <a:latin typeface="Times New Roman"/>
              </a:rPr>
              <a:t>Upravený Waldramův diagram</a:t>
            </a:r>
            <a:br>
              <a:rPr sz="4800"/>
            </a:b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3760" y="1523880"/>
            <a:ext cx="3429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estrojen v 90. letech minulého století na ČVUT v Praze. Uvažuje oblohu s gradova-ným jasem a směro-vou propustnost dvojitého zasklení dle ČSN 730580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5105160" cy="3225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920" y="5638680"/>
            <a:ext cx="5867280" cy="581400"/>
          </a:xfrm>
          <a:prstGeom prst="rect">
            <a:avLst/>
          </a:prstGeom>
          <a:solidFill>
            <a:srgbClr val="ffcc99"/>
          </a:solidFill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N PRO SVISLÉ ZASK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244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828800" y="2590920"/>
                <a:ext cx="24382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2623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219320" y="3962520"/>
                <a:ext cx="365760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ψ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ψ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ψ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66ffff"/>
                </a:solidFill>
                <a:latin typeface="Times New Roman"/>
              </a:rPr>
              <a:t>Upravený Waldramův diagram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244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1089000"/>
          <a:ext cx="9144000" cy="57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89000"/>
                    <a:ext cx="9144000" cy="57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66ffff"/>
                </a:solidFill>
                <a:latin typeface="Times New Roman"/>
              </a:rPr>
              <a:t>Upravený Waldramův diagram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244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0" y="1089000"/>
          <a:ext cx="9144000" cy="57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89000"/>
                    <a:ext cx="9144000" cy="57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66ffff"/>
                </a:solidFill>
                <a:latin typeface="Times New Roman"/>
              </a:rPr>
              <a:t>Upravený Waldramův diagram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244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1089000"/>
          <a:ext cx="9144000" cy="57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89000"/>
                    <a:ext cx="9144000" cy="57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66ffff"/>
                </a:solidFill>
                <a:latin typeface="Times New Roman"/>
              </a:rPr>
              <a:t>Upravený Waldramův diagram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244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0" y="1089000"/>
          <a:ext cx="9144000" cy="57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89000"/>
                    <a:ext cx="9144000" cy="57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66ffff"/>
                </a:solidFill>
                <a:latin typeface="Times New Roman"/>
              </a:rPr>
              <a:t>Upravený Waldramův diagram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244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089000"/>
          <a:ext cx="9144000" cy="57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89000"/>
                    <a:ext cx="9144000" cy="57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481720" y="0"/>
          <a:ext cx="3662280" cy="579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1720" y="0"/>
                    <a:ext cx="3662280" cy="5791320"/>
                  </a:xfrm>
                  <a:prstGeom prst="rect">
                    <a:avLst/>
                  </a:prstGeom>
                  <a:ln w="63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19:20:17Z</dcterms:created>
  <dc:creator>Ing. Jan Kaňka, Ph.D.</dc:creator>
  <dc:description/>
  <dc:language>en-US</dc:language>
  <cp:lastModifiedBy>Ing. Jan Kaňka, Ph.D.</cp:lastModifiedBy>
  <dcterms:modified xsi:type="dcterms:W3CDTF">2004-09-25T10:25:54Z</dcterms:modified>
  <cp:revision>3</cp:revision>
  <dc:subject/>
  <dc:title>Stavební fyzika 1  (světlo a zvuk 1)</dc:title>
</cp:coreProperties>
</file>