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3A4-24C4-46B4-A724-4FCBF36A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3C1-D8E7-4859-80A9-CB524E14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11F-737D-48DE-BD12-435A28D7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E86-0855-4474-A093-6E9EFAF4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F4A-5D1D-4700-87D8-4F76323C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2E6-8494-44C7-8DF7-EDD6F0F8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60E-3383-4A9C-AE77-E092BB0C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5E6-2A3D-4695-BD2B-8A857E10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453-1AA9-498F-A292-92FD5715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969-989D-4E4E-BC24-7442E412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69C5-5150-45D7-8FC3-F7A87065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CB3-8736-4686-B269-F054C6CB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6AE9-A3C6-43CA-BF2E-6DA2F6960E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tavební fyzika 1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(světlo a zvuk 1)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. Denní osvětle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bloha jako zdroj světl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Zatažen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62120" y="227808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7808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Zatažen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227808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7808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loha s konstantním jas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120" y="160020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477120" y="3505320"/>
          <a:ext cx="2249280" cy="30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505320"/>
                    <a:ext cx="2249280" cy="3047760"/>
                  </a:xfrm>
                  <a:prstGeom prst="rect">
                    <a:avLst/>
                  </a:prstGeom>
                  <a:ln w="3168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28600" y="5715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Johann Heinrich Lambert (1728 – 1777)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loha s gradovaným jas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2120" y="227808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7808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914400" y="5867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00"/>
                </a:solidFill>
                <a:latin typeface="Arial"/>
              </a:rPr>
              <a:t>Moon – Spencer konec 19 sto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loha s gradovaným jas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2120" y="227808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7808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loha s gradovaným jas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120" y="227808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7808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590920" y="5562720"/>
                <a:ext cx="37335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loha s gradovaným jas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2120" y="227808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7808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590920" y="5562720"/>
                <a:ext cx="37335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loha s gradovaným jas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227808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7808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590920" y="5562720"/>
                <a:ext cx="37335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050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Zatažená obloha v zimě při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mavém terénu (ČSN 730580-1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2120" y="227808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7808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90920" y="5562720"/>
                <a:ext cx="37335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050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atažená obloha v zimě při zasněženém terénu (ČSN 730580-1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227808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7808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84600" y="5562720"/>
                <a:ext cx="33462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638680" y="2286000"/>
            <a:ext cx="3124440" cy="8146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N V LOKALITÁ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 m n.m. A VÝŠ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loha jako plošný zdroj svět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loha s konstantním jas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hann Heinrich Lambert (1728 – 1777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loha s gradovaným jas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on – Spen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loha C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světlenost zataženou oblohou během dn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2209680"/>
          <a:ext cx="6954840" cy="39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69548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světlenost zataženou oblohou během dn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2209680"/>
          <a:ext cx="6954840" cy="39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69548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světlenost zataženou oblohou během dn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2209680"/>
          <a:ext cx="6954840" cy="39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69548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38862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Činitel denní osvětlenosti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 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343400" y="304920"/>
          <a:ext cx="412416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04920"/>
                    <a:ext cx="4124160" cy="6230880"/>
                  </a:xfrm>
                  <a:prstGeom prst="rect">
                    <a:avLst/>
                  </a:prstGeom>
                  <a:ln w="11448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38862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Činitel denní osvětlenosti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 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343400" y="304920"/>
          <a:ext cx="412416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04920"/>
                    <a:ext cx="4124160" cy="6230880"/>
                  </a:xfrm>
                  <a:prstGeom prst="rect">
                    <a:avLst/>
                  </a:prstGeom>
                  <a:ln w="11448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38862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Činitel denní osvětlenosti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 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343400" y="304920"/>
          <a:ext cx="412416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04920"/>
                    <a:ext cx="4124160" cy="6230880"/>
                  </a:xfrm>
                  <a:prstGeom prst="rect">
                    <a:avLst/>
                  </a:prstGeom>
                  <a:ln w="11448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41101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85800" y="4419720"/>
                <a:ext cx="301320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sná obloh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62120" y="227808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7808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sná obloh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227808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7808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lojasn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120" y="227808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7808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lačn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120" y="227808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7808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Zatažen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227808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7808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Zatažen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227808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7808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Zatažen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62120" y="2278080"/>
          <a:ext cx="746748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78080"/>
                    <a:ext cx="74674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2T21:08:33Z</dcterms:created>
  <dc:creator>Ing. Jan Kaňka, Ph.D.</dc:creator>
  <dc:description/>
  <dc:language>en-US</dc:language>
  <cp:lastModifiedBy>Ing. Jan Kaňka, Ph.D.</cp:lastModifiedBy>
  <dcterms:modified xsi:type="dcterms:W3CDTF">2004-09-12T21:23:04Z</dcterms:modified>
  <cp:revision>2</cp:revision>
  <dc:subject/>
  <dc:title>Stavební fyzika 1  (světlo a zvuk 1)</dc:title>
</cp:coreProperties>
</file>